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C88-E250-4ADC-B85E-4B33D7F7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1F7-4D7A-4357-BAEF-34F012C4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E30-8A21-46F1-A599-8AC90D8E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5BE-5C39-4A7F-AAEB-8CC34C0B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5336-9C61-48C9-9A58-A14D50CF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C43-0535-417C-9044-A172AD7F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4B4A-67E9-4C24-98E9-384D42A9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E33-AD91-42B4-8341-AB9E1480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248F-667B-410D-A271-953B6F8F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0DD-C78C-49A1-AB59-7AD80E3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1299-E794-4707-944D-D7EF74C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F9C-8466-461D-B77D-46609281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3B2-AD15-4E99-BF8B-27CFFD4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C61-F71A-487F-98A6-30FBD6D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14E-1776-41E5-A0DA-E73C55E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B07-63DA-4644-9552-95815583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DF43-3339-4EF2-B94F-F067E537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1347-82E8-4B60-B2E1-2EA4C412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2916-8CE3-41E7-BE6A-C6F7DCB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561B-6E60-4CAE-AB25-3DCE4A56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8011-8917-47E9-B2F3-9CC28559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405F-1ADF-420B-8BD3-C68E559B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ECB-F1F7-4CA1-AC6F-DB16E203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19ADD-8D4D-4B34-96C3-536279E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DC61-5D58-4F62-B803-18910BB7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E9D33-E95F-43C5-919C-2B78B283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B081-BC12-4CDF-A16E-16BC045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ADB4-85BB-48CA-AC40-F82DA34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70A5-BFF9-49BB-BD18-DA9DB88D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2ADD-E80D-4183-B661-13F4D157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E4C6-421F-4B2E-968C-EFCDF634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5E0D-8BAD-4D26-A5A7-3F0F55D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C347-CB60-4644-ADA9-03A6F06E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F73-12E0-4FD6-8BE2-E4E9C00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54E27-8CD8-4342-8B3C-B01F80C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D6C5-1737-448E-9793-53CB43D0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B66C-07FE-4B34-B545-DC1CA85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D441-76C0-441B-A606-FF081970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F326A-4F4D-4439-B5F7-0BF3BC7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8592-B4C4-49CC-9081-1A1010F2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75BD-AAEB-418D-8A84-92BE400E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8150-97F7-46E6-A804-B46CC7D3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3186-C60A-4977-BAD3-91FFD03F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FF0-E580-47EB-BF25-8F6B0A0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05D-853D-467F-869B-68038664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FC3-119D-4094-9160-AA463CA4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70E-7BD1-4894-91BE-D4B78516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451-FB26-484F-864C-9F15C69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943-E811-4CFB-96B6-8A77E571ACE6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5E66-F904-4192-B1BA-F7C142A0904A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64D-7531-4427-AD2A-D1DE05E71511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4584d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73e87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73e87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81E-7D2D-4553-BC80-B55286AECEC7}" type="slidenum">
              <a:rPr b="0" lang="pl-PL" sz="1400" spc="-1" strike="noStrike">
                <a:solidFill>
                  <a:srgbClr val="073e87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C:\Users\Ania\AppData\Local\Microsoft\Windows\Temporary Internet Files\Content.IE5\AKSHKWQ7\MP900439294[1].jpg"/>
          <p:cNvPicPr/>
          <p:nvPr/>
        </p:nvPicPr>
        <p:blipFill>
          <a:blip r:embed="rId1"/>
          <a:srcRect l="21698" t="11208" r="16121" b="224"/>
          <a:stretch/>
        </p:blipFill>
        <p:spPr>
          <a:xfrm>
            <a:off x="6364440" y="1989000"/>
            <a:ext cx="1807920" cy="38451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61680" y="1074600"/>
            <a:ext cx="5722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nstantia"/>
              </a:rPr>
              <a:t>Cechy podzielności liczb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ae51"/>
                </a:solidFill>
                <a:latin typeface="Franklin Gothic Book"/>
              </a:rPr>
              <a:t>prze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27" name="Group 448"/>
          <p:cNvGrpSpPr/>
          <p:nvPr/>
        </p:nvGrpSpPr>
        <p:grpSpPr>
          <a:xfrm>
            <a:off x="3314880" y="4267080"/>
            <a:ext cx="1134360" cy="844560"/>
            <a:chOff x="3314880" y="4267080"/>
            <a:chExt cx="1134360" cy="844560"/>
          </a:xfrm>
        </p:grpSpPr>
        <p:grpSp>
          <p:nvGrpSpPr>
            <p:cNvPr id="228" name="Grupa 13"/>
            <p:cNvGrpSpPr/>
            <p:nvPr/>
          </p:nvGrpSpPr>
          <p:grpSpPr>
            <a:xfrm>
              <a:off x="3314880" y="4312080"/>
              <a:ext cx="520920" cy="698760"/>
              <a:chOff x="3314880" y="4312080"/>
              <a:chExt cx="520920" cy="698760"/>
            </a:xfrm>
          </p:grpSpPr>
          <p:pic>
            <p:nvPicPr>
              <p:cNvPr id="229" name="Obraz 15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3314880" y="431208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Elipsa 16"/>
              <p:cNvSpPr/>
              <p:nvPr/>
            </p:nvSpPr>
            <p:spPr>
              <a:xfrm>
                <a:off x="3525120" y="436392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31" name="Elipsa 17"/>
              <p:cNvSpPr/>
              <p:nvPr/>
            </p:nvSpPr>
            <p:spPr>
              <a:xfrm>
                <a:off x="3609720" y="441756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32" name="Obraz 14" descr=""/>
            <p:cNvPicPr/>
            <p:nvPr/>
          </p:nvPicPr>
          <p:blipFill>
            <a:blip r:embed="rId3"/>
            <a:stretch/>
          </p:blipFill>
          <p:spPr>
            <a:xfrm>
              <a:off x="3650400" y="4267080"/>
              <a:ext cx="798840" cy="84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432"/>
          <p:cNvGrpSpPr/>
          <p:nvPr/>
        </p:nvGrpSpPr>
        <p:grpSpPr>
          <a:xfrm>
            <a:off x="4859280" y="4578480"/>
            <a:ext cx="1359000" cy="747720"/>
            <a:chOff x="4859280" y="4578480"/>
            <a:chExt cx="1359000" cy="747720"/>
          </a:xfrm>
        </p:grpSpPr>
        <p:pic>
          <p:nvPicPr>
            <p:cNvPr id="234" name="Obraz 6" descr=""/>
            <p:cNvPicPr/>
            <p:nvPr/>
          </p:nvPicPr>
          <p:blipFill>
            <a:blip r:embed="rId4"/>
            <a:stretch/>
          </p:blipFill>
          <p:spPr>
            <a:xfrm>
              <a:off x="5151600" y="4584960"/>
              <a:ext cx="702000" cy="74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434"/>
            <p:cNvGrpSpPr/>
            <p:nvPr/>
          </p:nvGrpSpPr>
          <p:grpSpPr>
            <a:xfrm>
              <a:off x="4859280" y="4578480"/>
              <a:ext cx="1359000" cy="741240"/>
              <a:chOff x="4859280" y="4578480"/>
              <a:chExt cx="1359000" cy="741240"/>
            </a:xfrm>
          </p:grpSpPr>
          <p:grpSp>
            <p:nvGrpSpPr>
              <p:cNvPr id="236" name="Grupa 8"/>
              <p:cNvGrpSpPr/>
              <p:nvPr/>
            </p:nvGrpSpPr>
            <p:grpSpPr>
              <a:xfrm>
                <a:off x="4859280" y="4618080"/>
                <a:ext cx="457920" cy="613080"/>
                <a:chOff x="4859280" y="4618080"/>
                <a:chExt cx="457920" cy="613080"/>
              </a:xfrm>
            </p:grpSpPr>
            <p:pic>
              <p:nvPicPr>
                <p:cNvPr id="237" name="Obraz 10" descr=""/>
                <p:cNvPicPr/>
                <p:nvPr/>
              </p:nvPicPr>
              <p:blipFill>
                <a:blip r:embed="rId5"/>
                <a:srcRect l="13896" t="0" r="16785" b="0"/>
                <a:stretch/>
              </p:blipFill>
              <p:spPr>
                <a:xfrm>
                  <a:off x="4859280" y="4618080"/>
                  <a:ext cx="457920" cy="61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Elipsa 11"/>
                <p:cNvSpPr/>
                <p:nvPr/>
              </p:nvSpPr>
              <p:spPr>
                <a:xfrm>
                  <a:off x="5044320" y="466344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  <p:sp>
              <p:nvSpPr>
                <p:cNvPr id="239" name="Elipsa 12"/>
                <p:cNvSpPr/>
                <p:nvPr/>
              </p:nvSpPr>
              <p:spPr>
                <a:xfrm>
                  <a:off x="5118480" y="4710600"/>
                  <a:ext cx="28800" cy="2484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pPr>
                    <a:lnSpc>
                      <a:spcPct val="107000"/>
                    </a:lnSpc>
                    <a:spcAft>
                      <a:spcPts val="7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Franklin Gothic Book"/>
                  </a:endParaRPr>
                </a:p>
              </p:txBody>
            </p:sp>
          </p:grpSp>
          <p:pic>
            <p:nvPicPr>
              <p:cNvPr id="240" name="Obraz 9" descr=""/>
              <p:cNvPicPr/>
              <p:nvPr/>
            </p:nvPicPr>
            <p:blipFill>
              <a:blip r:embed="rId6"/>
              <a:stretch/>
            </p:blipFill>
            <p:spPr>
              <a:xfrm>
                <a:off x="5516280" y="4578480"/>
                <a:ext cx="702000" cy="74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Ania\AppData\Local\Microsoft\Windows\Temporary Internet Files\Content.IE5\FZ4DAB55\MP900439090[1].jpg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75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24204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nstantia"/>
              </a:rPr>
              <a:t>Wybierz liczby podzielne przez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45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46" name="Grupa 6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47" name="Obraz 8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Elipsa 10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49" name="Elipsa 11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50" name="Obraz 7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pole tekstowe 3"/>
          <p:cNvSpPr/>
          <p:nvPr/>
        </p:nvSpPr>
        <p:spPr>
          <a:xfrm rot="781800">
            <a:off x="757800" y="2124360"/>
            <a:ext cx="6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ole tekstowe 15"/>
          <p:cNvSpPr/>
          <p:nvPr/>
        </p:nvSpPr>
        <p:spPr>
          <a:xfrm rot="781800">
            <a:off x="1324800" y="2439360"/>
            <a:ext cx="7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0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ole tekstowe 16"/>
          <p:cNvSpPr/>
          <p:nvPr/>
        </p:nvSpPr>
        <p:spPr>
          <a:xfrm rot="781800">
            <a:off x="613080" y="28537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3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ole tekstowe 17"/>
          <p:cNvSpPr/>
          <p:nvPr/>
        </p:nvSpPr>
        <p:spPr>
          <a:xfrm rot="781800">
            <a:off x="2211840" y="25455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ole tekstowe 18"/>
          <p:cNvSpPr/>
          <p:nvPr/>
        </p:nvSpPr>
        <p:spPr>
          <a:xfrm rot="781800">
            <a:off x="5332320" y="52448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8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ole tekstowe 19"/>
          <p:cNvSpPr/>
          <p:nvPr/>
        </p:nvSpPr>
        <p:spPr>
          <a:xfrm rot="781800">
            <a:off x="1324800" y="3550320"/>
            <a:ext cx="7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3366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ole tekstowe 20"/>
          <p:cNvSpPr/>
          <p:nvPr/>
        </p:nvSpPr>
        <p:spPr>
          <a:xfrm rot="781800">
            <a:off x="2441880" y="40456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8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ole tekstowe 21"/>
          <p:cNvSpPr/>
          <p:nvPr/>
        </p:nvSpPr>
        <p:spPr>
          <a:xfrm rot="781800">
            <a:off x="647640" y="3758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510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ole tekstowe 22"/>
          <p:cNvSpPr/>
          <p:nvPr/>
        </p:nvSpPr>
        <p:spPr>
          <a:xfrm rot="781800">
            <a:off x="1709640" y="31258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722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ole tekstowe 23"/>
          <p:cNvSpPr/>
          <p:nvPr/>
        </p:nvSpPr>
        <p:spPr>
          <a:xfrm rot="781800">
            <a:off x="3421800" y="279468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2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ole tekstowe 24"/>
          <p:cNvSpPr/>
          <p:nvPr/>
        </p:nvSpPr>
        <p:spPr>
          <a:xfrm rot="781800">
            <a:off x="4356360" y="284076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92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ole tekstowe 26"/>
          <p:cNvSpPr/>
          <p:nvPr/>
        </p:nvSpPr>
        <p:spPr>
          <a:xfrm rot="781800">
            <a:off x="3556800" y="336780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55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ole tekstowe 27"/>
          <p:cNvSpPr/>
          <p:nvPr/>
        </p:nvSpPr>
        <p:spPr>
          <a:xfrm rot="781800">
            <a:off x="5366160" y="33314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134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ole tekstowe 28"/>
          <p:cNvSpPr/>
          <p:nvPr/>
        </p:nvSpPr>
        <p:spPr>
          <a:xfrm rot="781800">
            <a:off x="4645440" y="37774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46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ole tekstowe 29"/>
          <p:cNvSpPr/>
          <p:nvPr/>
        </p:nvSpPr>
        <p:spPr>
          <a:xfrm rot="781800">
            <a:off x="3048840" y="3732840"/>
            <a:ext cx="6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4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ole tekstowe 30"/>
          <p:cNvSpPr/>
          <p:nvPr/>
        </p:nvSpPr>
        <p:spPr>
          <a:xfrm rot="781800">
            <a:off x="3951360" y="4317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7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ole tekstowe 31"/>
          <p:cNvSpPr/>
          <p:nvPr/>
        </p:nvSpPr>
        <p:spPr>
          <a:xfrm rot="781800">
            <a:off x="5090760" y="4594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8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ole tekstowe 32"/>
          <p:cNvSpPr/>
          <p:nvPr/>
        </p:nvSpPr>
        <p:spPr>
          <a:xfrm rot="781800">
            <a:off x="5416920" y="4169520"/>
            <a:ext cx="6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620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ole tekstowe 33"/>
          <p:cNvSpPr/>
          <p:nvPr/>
        </p:nvSpPr>
        <p:spPr>
          <a:xfrm rot="781800">
            <a:off x="5977080" y="3868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99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Objaśnienie prostokątne zaokrąglone 4"/>
          <p:cNvSpPr/>
          <p:nvPr/>
        </p:nvSpPr>
        <p:spPr>
          <a:xfrm>
            <a:off x="6300720" y="170496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Sprawdź, które liczby dzielą się przez </a:t>
            </a: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10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52e65"/>
                </a:solidFill>
                <a:latin typeface="Franklin Gothic Book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nstantia"/>
              </a:rPr>
              <a:t>WNIOSE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1b98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3" name="pole tekstowe 7" descr=""/>
          <p:cNvPicPr/>
          <p:nvPr/>
        </p:nvPicPr>
        <p:blipFill>
          <a:blip r:embed="rId1"/>
          <a:stretch/>
        </p:blipFill>
        <p:spPr>
          <a:xfrm>
            <a:off x="2749680" y="2041560"/>
            <a:ext cx="5260680" cy="1652400"/>
          </a:xfrm>
          <a:prstGeom prst="rect">
            <a:avLst/>
          </a:prstGeom>
          <a:ln w="0">
            <a:noFill/>
          </a:ln>
        </p:spPr>
      </p:pic>
      <p:pic>
        <p:nvPicPr>
          <p:cNvPr id="274" name="Obraz 3" descr=""/>
          <p:cNvPicPr/>
          <p:nvPr/>
        </p:nvPicPr>
        <p:blipFill>
          <a:blip r:embed="rId2"/>
          <a:stretch/>
        </p:blipFill>
        <p:spPr>
          <a:xfrm>
            <a:off x="1469880" y="3141720"/>
            <a:ext cx="3859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10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6937200" cy="4456080"/>
          </a:xfrm>
          <a:prstGeom prst="rect">
            <a:avLst/>
          </a:prstGeom>
          <a:ln w="0">
            <a:noFill/>
          </a:ln>
        </p:spPr>
      </p:pic>
      <p:sp>
        <p:nvSpPr>
          <p:cNvPr id="277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278" name="Group 448"/>
          <p:cNvGrpSpPr/>
          <p:nvPr/>
        </p:nvGrpSpPr>
        <p:grpSpPr>
          <a:xfrm>
            <a:off x="7045200" y="712800"/>
            <a:ext cx="1135080" cy="844560"/>
            <a:chOff x="7045200" y="712800"/>
            <a:chExt cx="1135080" cy="844560"/>
          </a:xfrm>
        </p:grpSpPr>
        <p:grpSp>
          <p:nvGrpSpPr>
            <p:cNvPr id="279" name="Grupa 8"/>
            <p:cNvGrpSpPr/>
            <p:nvPr/>
          </p:nvGrpSpPr>
          <p:grpSpPr>
            <a:xfrm>
              <a:off x="7045200" y="757800"/>
              <a:ext cx="520920" cy="698760"/>
              <a:chOff x="7045200" y="757800"/>
              <a:chExt cx="520920" cy="698760"/>
            </a:xfrm>
          </p:grpSpPr>
          <p:pic>
            <p:nvPicPr>
              <p:cNvPr id="280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7045200" y="757800"/>
                <a:ext cx="520920" cy="69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Elipsa 12"/>
              <p:cNvSpPr/>
              <p:nvPr/>
            </p:nvSpPr>
            <p:spPr>
              <a:xfrm>
                <a:off x="725544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282" name="Elipsa 13"/>
              <p:cNvSpPr/>
              <p:nvPr/>
            </p:nvSpPr>
            <p:spPr>
              <a:xfrm>
                <a:off x="734004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283" name="Obraz 10" descr=""/>
            <p:cNvPicPr/>
            <p:nvPr/>
          </p:nvPicPr>
          <p:blipFill>
            <a:blip r:embed="rId3"/>
            <a:stretch/>
          </p:blipFill>
          <p:spPr>
            <a:xfrm>
              <a:off x="7381080" y="712800"/>
              <a:ext cx="799200" cy="84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ytuł 1" descr=""/>
          <p:cNvPicPr/>
          <p:nvPr/>
        </p:nvPicPr>
        <p:blipFill>
          <a:blip r:embed="rId1"/>
          <a:stretch/>
        </p:blipFill>
        <p:spPr>
          <a:xfrm>
            <a:off x="1073160" y="554040"/>
            <a:ext cx="7016760" cy="1201680"/>
          </a:xfrm>
          <a:prstGeom prst="rect">
            <a:avLst/>
          </a:prstGeom>
          <a:ln w="0">
            <a:noFill/>
          </a:ln>
        </p:spPr>
      </p:pic>
      <p:sp>
        <p:nvSpPr>
          <p:cNvPr id="28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6" name="Objaśnienie prostokątne 5" descr=""/>
          <p:cNvPicPr/>
          <p:nvPr/>
        </p:nvPicPr>
        <p:blipFill>
          <a:blip r:embed="rId2"/>
          <a:stretch/>
        </p:blipFill>
        <p:spPr>
          <a:xfrm>
            <a:off x="-6480" y="1865160"/>
            <a:ext cx="2646360" cy="18115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upa 19"/>
          <p:cNvGrpSpPr/>
          <p:nvPr/>
        </p:nvGrpSpPr>
        <p:grpSpPr>
          <a:xfrm>
            <a:off x="1949400" y="4021200"/>
            <a:ext cx="2811600" cy="1592280"/>
            <a:chOff x="1949400" y="4021200"/>
            <a:chExt cx="2811600" cy="1592280"/>
          </a:xfrm>
        </p:grpSpPr>
        <p:pic>
          <p:nvPicPr>
            <p:cNvPr id="288" name="Obraz 6" descr=""/>
            <p:cNvPicPr/>
            <p:nvPr/>
          </p:nvPicPr>
          <p:blipFill>
            <a:blip r:embed="rId3"/>
            <a:srcRect l="16287" t="0" r="17021" b="0"/>
            <a:stretch/>
          </p:blipFill>
          <p:spPr>
            <a:xfrm>
              <a:off x="1949400" y="4021200"/>
              <a:ext cx="947520" cy="14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Obraz 8" descr=""/>
            <p:cNvPicPr/>
            <p:nvPr/>
          </p:nvPicPr>
          <p:blipFill>
            <a:blip r:embed="rId4"/>
            <a:stretch/>
          </p:blipFill>
          <p:spPr>
            <a:xfrm>
              <a:off x="2423160" y="4041000"/>
              <a:ext cx="1490400" cy="15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Obraz 12" descr=""/>
            <p:cNvPicPr/>
            <p:nvPr/>
          </p:nvPicPr>
          <p:blipFill>
            <a:blip r:embed="rId5"/>
            <a:stretch/>
          </p:blipFill>
          <p:spPr>
            <a:xfrm>
              <a:off x="3270600" y="4026960"/>
              <a:ext cx="1490400" cy="157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ole tekstowe 18" descr=""/>
          <p:cNvPicPr/>
          <p:nvPr/>
        </p:nvPicPr>
        <p:blipFill>
          <a:blip r:embed="rId6"/>
          <a:stretch/>
        </p:blipFill>
        <p:spPr>
          <a:xfrm>
            <a:off x="2724120" y="2584440"/>
            <a:ext cx="5408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7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7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3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Symbol zastępczy zawartości 2" descr=""/>
          <p:cNvPicPr/>
          <p:nvPr/>
        </p:nvPicPr>
        <p:blipFill>
          <a:blip r:embed="rId1"/>
          <a:stretch/>
        </p:blipFill>
        <p:spPr>
          <a:xfrm>
            <a:off x="1219320" y="1663560"/>
            <a:ext cx="6881760" cy="4359240"/>
          </a:xfrm>
          <a:prstGeom prst="rect">
            <a:avLst/>
          </a:prstGeom>
          <a:ln w="0">
            <a:noFill/>
          </a:ln>
        </p:spPr>
      </p:pic>
      <p:sp>
        <p:nvSpPr>
          <p:cNvPr id="294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Users\Ania\AppData\Local\Microsoft\Windows\Temporary Internet Files\Content.IE5\AKSHKWQ7\MC900343405[1].wmf"/>
          <p:cNvPicPr/>
          <p:nvPr/>
        </p:nvPicPr>
        <p:blipFill>
          <a:blip r:embed="rId2"/>
          <a:stretch/>
        </p:blipFill>
        <p:spPr>
          <a:xfrm>
            <a:off x="5913360" y="4149720"/>
            <a:ext cx="22654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296" name="Grupa 1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297" name="Grupa 15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298" name="Obraz 18" descr=""/>
              <p:cNvPicPr/>
              <p:nvPr/>
            </p:nvPicPr>
            <p:blipFill>
              <a:blip r:embed="rId3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Elipsa 19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00" name="Elipsa 20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01" name="Obraz 16" descr=""/>
            <p:cNvPicPr/>
            <p:nvPr/>
          </p:nvPicPr>
          <p:blipFill>
            <a:blip r:embed="rId4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raz 17" descr=""/>
            <p:cNvPicPr/>
            <p:nvPr/>
          </p:nvPicPr>
          <p:blipFill>
            <a:blip r:embed="rId5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59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8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81">
                                          <p:stCondLst>
                                            <p:cond delay="58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90">
                                          <p:stCondLst>
                                            <p:cond delay="11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44">
                                          <p:stCondLst>
                                            <p:cond delay="144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3" fill="hold">
                                          <p:stCondLst>
                                            <p:cond delay="5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45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3" fill="hold">
                                          <p:stCondLst>
                                            <p:cond delay="114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45" fill="hold">
                                          <p:stCondLst>
                                            <p:cond delay="117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3" fill="hold">
                                          <p:stCondLst>
                                            <p:cond delay="143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45" fill="hold">
                                          <p:stCondLst>
                                            <p:cond delay="145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3" fill="hold">
                                          <p:stCondLst>
                                            <p:cond delay="158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45" fill="hold">
                                          <p:stCondLst>
                                            <p:cond delay="160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Symbol zastępczy zawartości 2" descr=""/>
          <p:cNvPicPr/>
          <p:nvPr/>
        </p:nvPicPr>
        <p:blipFill>
          <a:blip r:embed="rId1"/>
          <a:stretch/>
        </p:blipFill>
        <p:spPr>
          <a:xfrm>
            <a:off x="1206360" y="1663560"/>
            <a:ext cx="6894720" cy="4359240"/>
          </a:xfrm>
          <a:prstGeom prst="rect">
            <a:avLst/>
          </a:prstGeom>
          <a:ln w="0">
            <a:noFill/>
          </a:ln>
        </p:spPr>
      </p:pic>
      <p:sp>
        <p:nvSpPr>
          <p:cNvPr id="305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rostokąt zaokrąglony 3"/>
          <p:cNvSpPr/>
          <p:nvPr/>
        </p:nvSpPr>
        <p:spPr>
          <a:xfrm>
            <a:off x="6199200" y="227664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1b6fd"/>
          </a:solidFill>
          <a:ln w="15840">
            <a:solidFill>
              <a:srgbClr val="1a6c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Cennik biletów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Franklin Gothic Book"/>
              </a:rPr>
              <a:t>na karuzelę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Osoba dorosł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7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Dziecko powyżej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5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Dziecko poniżej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Franklin Gothic Book"/>
              </a:rPr>
              <a:t>10 roku życia</a:t>
            </a:r>
            <a:r>
              <a:rPr b="0" lang="pl-PL" sz="18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Franklin Gothic Book"/>
              </a:rPr>
              <a:t>3 z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07" name="Grupa 15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08" name="Grupa 16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09" name="Obraz 19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Elipsa 20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11" name="Elipsa 21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12" name="Obraz 17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Obraz 18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7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5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1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0960" y="55404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nstantia"/>
              </a:rPr>
              <a:t>Ćwiczenia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Symbol zastępczy zawartości 2" descr=""/>
          <p:cNvPicPr/>
          <p:nvPr/>
        </p:nvPicPr>
        <p:blipFill>
          <a:blip r:embed="rId1"/>
          <a:stretch/>
        </p:blipFill>
        <p:spPr>
          <a:xfrm>
            <a:off x="1238400" y="1646280"/>
            <a:ext cx="6862680" cy="4376520"/>
          </a:xfrm>
          <a:prstGeom prst="rect">
            <a:avLst/>
          </a:prstGeom>
          <a:ln w="0">
            <a:noFill/>
          </a:ln>
        </p:spPr>
      </p:pic>
      <p:sp>
        <p:nvSpPr>
          <p:cNvPr id="316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86a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17" name="Grupa 4"/>
          <p:cNvGrpSpPr/>
          <p:nvPr/>
        </p:nvGrpSpPr>
        <p:grpSpPr>
          <a:xfrm>
            <a:off x="6478560" y="712800"/>
            <a:ext cx="1558800" cy="851040"/>
            <a:chOff x="6478560" y="712800"/>
            <a:chExt cx="1558800" cy="851040"/>
          </a:xfrm>
        </p:grpSpPr>
        <p:grpSp>
          <p:nvGrpSpPr>
            <p:cNvPr id="318" name="Grupa 8"/>
            <p:cNvGrpSpPr/>
            <p:nvPr/>
          </p:nvGrpSpPr>
          <p:grpSpPr>
            <a:xfrm>
              <a:off x="6478560" y="757800"/>
              <a:ext cx="520920" cy="699120"/>
              <a:chOff x="6478560" y="757800"/>
              <a:chExt cx="520920" cy="699120"/>
            </a:xfrm>
          </p:grpSpPr>
          <p:pic>
            <p:nvPicPr>
              <p:cNvPr id="319" name="Obraz 11" descr=""/>
              <p:cNvPicPr/>
              <p:nvPr/>
            </p:nvPicPr>
            <p:blipFill>
              <a:blip r:embed="rId2"/>
              <a:srcRect l="13898" t="0" r="16802" b="0"/>
              <a:stretch/>
            </p:blipFill>
            <p:spPr>
              <a:xfrm>
                <a:off x="6478560" y="757800"/>
                <a:ext cx="520920" cy="69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Elipsa 12"/>
              <p:cNvSpPr/>
              <p:nvPr/>
            </p:nvSpPr>
            <p:spPr>
              <a:xfrm>
                <a:off x="6688800" y="80964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321" name="Elipsa 13"/>
              <p:cNvSpPr/>
              <p:nvPr/>
            </p:nvSpPr>
            <p:spPr>
              <a:xfrm>
                <a:off x="6773400" y="863280"/>
                <a:ext cx="32760" cy="2844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pPr>
                  <a:lnSpc>
                    <a:spcPct val="107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pic>
          <p:nvPicPr>
            <p:cNvPr id="322" name="Obraz 10" descr=""/>
            <p:cNvPicPr/>
            <p:nvPr/>
          </p:nvPicPr>
          <p:blipFill>
            <a:blip r:embed="rId3"/>
            <a:stretch/>
          </p:blipFill>
          <p:spPr>
            <a:xfrm>
              <a:off x="6814080" y="712800"/>
              <a:ext cx="798840" cy="8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raz 14" descr=""/>
            <p:cNvPicPr/>
            <p:nvPr/>
          </p:nvPicPr>
          <p:blipFill>
            <a:blip r:embed="rId4"/>
            <a:stretch/>
          </p:blipFill>
          <p:spPr>
            <a:xfrm>
              <a:off x="7238520" y="718920"/>
              <a:ext cx="798840" cy="8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100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3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9:50Z</dcterms:modified>
  <cp:revision>69</cp:revision>
  <dc:subject/>
  <dc:title>Mnożenie i dzielenie w zadaniach</dc:title>
</cp:coreProperties>
</file>